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AEEC-C180-4DC2-8BC1-77EADBB74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7C71-72F8-4AAE-93C1-EE8BB7E0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86C9-2E80-4EA8-ACE7-A9BB4DD67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69CC-2EBE-43A1-B128-7990B087D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DB53-3F41-48CE-B7EA-B032B7E5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C23B-68CD-4B18-A628-94B0E3D6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9119-DBB9-4635-AF84-E58E88CA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25EC-8B91-4C5F-BEE2-1B5F0B25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CBEC-0C67-4CE5-8FBE-1BA8ED4F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C529-60C8-4171-AC81-C5C53A32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6D4C-1B65-46B2-BD97-DF8B27FB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366A-B19C-4202-AF7D-81BD965E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A698-322A-4F5C-A04A-2DB70012C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son McCammitt Gr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Colorado Image"/>
          <p:cNvPicPr/>
          <p:nvPr/>
        </p:nvPicPr>
        <p:blipFill>
          <a:blip r:embed="rId1"/>
          <a:stretch/>
        </p:blipFill>
        <p:spPr>
          <a:xfrm>
            <a:off x="0" y="0"/>
            <a:ext cx="3390840" cy="3276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4419720"/>
            <a:ext cx="2590920" cy="2438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400800" y="4343400"/>
            <a:ext cx="274320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257800" y="0"/>
            <a:ext cx="3886200" cy="266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1523880" y="1184400"/>
          <a:ext cx="270000" cy="21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1184400"/>
                    <a:ext cx="270000" cy="21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 Den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hood August 1,1876   3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to Nil sine Numine  Nothing without Pro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 in Population 4,417,7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104,100  square miles  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rg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 Household income $49,216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Colorado Image"/>
          <p:cNvPicPr/>
          <p:nvPr/>
        </p:nvPicPr>
        <p:blipFill>
          <a:blip r:embed="rId1"/>
          <a:stretch/>
        </p:blipFill>
        <p:spPr>
          <a:xfrm>
            <a:off x="3276720" y="5086440"/>
            <a:ext cx="2476440" cy="1771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62320" cy="1571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934320" y="0"/>
            <a:ext cx="220968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ad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oral votes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d Lark b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er Columb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Peoples Ute, Jicarilla, Arapa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90920" y="3954600"/>
            <a:ext cx="4295520" cy="2903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715000" y="609480"/>
            <a:ext cx="3276720" cy="21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3:54:45Z</dcterms:created>
  <dc:creator>Student</dc:creator>
  <dc:description/>
  <dc:language>en-US</dc:language>
  <cp:lastModifiedBy>Student</cp:lastModifiedBy>
  <dcterms:modified xsi:type="dcterms:W3CDTF">2012-05-14T14:30:45Z</dcterms:modified>
  <cp:revision>3</cp:revision>
  <dc:subject/>
  <dc:title>Colorado</dc:title>
</cp:coreProperties>
</file>